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click.wav" ContentType="audio/x-wav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406DFD0-FE7A-43A3-99A6-6F4E280AC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1CB9A53-7CC4-4405-9988-57E17B27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0AFEEBD-2E27-4575-8304-FCEB8F6F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3303F5C-FF7C-4E05-B81F-6702ED6E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22D0371-F3DC-496B-8DFF-AA3C0C3D5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283C350-B702-436E-A2C5-16B2FB7A0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EA19705-7C98-4FED-8155-294D7E91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9AB59FA-D462-462C-B137-2BC3BD14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AED-1CAC-4CA7-BBD6-E0D16E9D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73F-E09A-4754-90D4-AB0FF2C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E7C-3D78-4C93-B324-9D7F9798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B20-F2CC-4735-ABB0-6F472585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6542-B67F-47BB-84F4-7F8236F1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C09-28B0-47DB-9F64-B3177B3E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E89D-36CF-49B7-A984-8B5437E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4CA-DAB1-4840-B97A-AC597269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963-C593-48E5-A5B9-D900407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2EF7-ED72-4077-B1EC-DB77694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4BB-D4F6-4380-9FDB-6D99355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0B8-7030-4B50-A6A2-ECF4406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4545-8DDB-4791-9505-DC92223B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B5B7-F81C-4097-B40A-11313FA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541C-0EFA-4F02-A027-2F5855F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A83A-9B02-4418-AC07-EE0227BC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090B-4BA3-4DC0-A645-C46C68E9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4E70-08A7-4A5E-AD6E-4870F2CA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E3BC-4FAB-4222-96EE-B22B1DF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EDCC-0104-4B48-BC9E-411CAE9D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449D-FC98-4C40-80CE-4FFA1B4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F77C-F0DB-46F6-B9E7-76CDD29F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942-569D-4925-B58C-D5D21D5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E33A-63C2-41DE-A27E-F7DCC5EB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70F6-693C-4A17-9D8C-9D0C63C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D463-CCE9-463E-8305-CD4338D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D533-0FEC-486B-A048-CD9A32D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D92A-E3DC-41D4-A079-899C548F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D149-0CB9-4021-853A-BB630C54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4AC8-27E4-47C9-B2A5-4589C4B1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2293-5BD7-4E12-A36E-8C571C8F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D216-2F5D-45C2-BCF0-FCFF205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9E0A-66E2-44E9-A788-01513ED4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3C9-C7E2-4F27-B1CA-9397DB9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DFB6-E01D-4764-93FD-2C01CA4C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0298-F0E6-4D89-9861-50B4E8F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0CB8-E85B-4D69-8C1C-11DC9ED6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5346-2DC3-47F3-95C0-384903F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664D-DB0B-4EE2-B3CF-75E46A2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254C-C7C8-4DD3-B85E-91BE25F6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1C8C-C28B-4B77-BFB3-636DDCC3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D11B-6C0B-4718-AC74-DC53A27D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E07A-2750-4C8A-8F75-539CF3EC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7541-C9EC-44ED-B332-822CDA16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690-11FD-456C-B4BF-4CA6835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A638-8E2E-4DA5-9338-3F5711FE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0E1E4-608B-488A-A5F3-B4518205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FC70-6886-4272-83DF-2C76A901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827E-AD7D-49FE-A7D3-E19B3A36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ADD5-90B5-426F-94C3-8F534FB3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E8096-6804-48F2-B35C-114D626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6F78-2B83-47D1-9676-9B40DBB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4068-1706-46B9-864D-90B7ED2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97E4-68C0-4EC8-8BFD-627AE05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FB31-6B56-40F1-B353-1F0488AF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C97-6198-4FA4-A767-E093BB92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9C5E-6F04-49B7-B3A2-0B10B47E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1E38C-F069-4408-B275-A1E1201C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74D9-FB3D-4D7F-9E35-47F10B5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598A9-9BBF-4753-9EB1-7EC41F5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39D1C-AB6D-4EF3-81A6-8F69927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8FDD1-2A18-428D-A24F-50906AA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C34B7-4F0A-4788-AE36-94737F04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6905-0E20-47AE-B866-B92AB3F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111C1-1965-41CA-81D6-07E2729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27B30-AEB2-41F3-AD07-EFF136C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5FB-0AB0-414D-B242-DD251DA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3B87B-6801-4C56-973B-B225279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20AE-E850-4ECE-8198-C20AAAE5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CF8F8-3E4B-4CC8-AB48-61998949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E29AB-F81D-4BBF-B279-6B58B966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06999-83DD-4A15-A3CF-0AC87C2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554AC-794A-498A-82AE-5F2377AD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7246-86E2-4E18-9419-81B2714C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6D78-4D7C-4B4E-B275-66AA900D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22D6B-BAE4-4C15-A804-8F061F5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C0561-CF22-464B-8B45-43041FC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F23-77F9-4E01-9AF7-5F9D9AF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21C7-1879-42D2-9E9D-CC081F45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FACD6-11E5-4F6E-9650-3A14404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343A-80AB-4019-936F-812DAE3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F895-F9CF-4435-89F1-44F180C4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9A25-AA10-4870-8222-493B6199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65A3-A39B-489F-AC52-EB6981D7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C5257-5799-4BDE-B78E-26DCF0FF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63CC7-C765-4C23-8E18-1695A61D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0108-0CA6-46A1-8BD2-B65F24D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D8C6-2060-41D5-992E-D755A51D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C2E-D530-4E36-B497-F67F8B7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9FF7-49BB-447C-BE1D-105E216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63D3-80A5-4E8A-809A-5BACE35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6F071-9C30-4238-8754-0ED007E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3E64-8A6C-40BE-86DD-5D48804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D3A75-3377-4C1B-AA8D-9273E041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337C-2206-417A-AC11-69FC3293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E54A4-57A1-4F9E-8350-43ED5F79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B333-9A2A-43DA-99DF-201AC1D87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3F39-B7F4-40D3-A174-09C4A10362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9A83-389F-4C22-9ED2-C6AEE61059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3851-0B9E-477C-B340-5DEB3A3B24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F5C8-AC0F-4C66-88E5-D2A2A99631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B54-1959-45C9-805B-61FBFF9218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7B6C-0134-447E-B72B-AD2CEB19E1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6C9F-045F-4A02-B705-31AE9F9B72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1. A-, Ab-, Abs- </a:t>
            </a:r>
            <a:r>
              <a:rPr b="0" lang="en-US" sz="3900" spc="-1" strike="noStrike">
                <a:solidFill>
                  <a:srgbClr val="0000cc"/>
                </a:solidFill>
                <a:latin typeface="Gill Sans MT"/>
              </a:rPr>
              <a:t>(write on the left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Gill Sans MT"/>
              </a:rPr>
              <a:t>(write on the right; skip tw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e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norm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sta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ru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str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ers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218960"/>
            <a:ext cx="3814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Gill Sans MT"/>
              </a:rPr>
              <a:t>(write on the righ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way; from; of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way.jpg"/>
          <p:cNvPicPr/>
          <p:nvPr/>
        </p:nvPicPr>
        <p:blipFill>
          <a:blip r:embed="rId1"/>
          <a:stretch/>
        </p:blipFill>
        <p:spPr>
          <a:xfrm>
            <a:off x="5334120" y="38098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-, An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040" y="1600200"/>
            <a:ext cx="381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pat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theist/ atheism (ist= one wh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sthes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oral (al= of or pertaining to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archy/ anarchi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; withou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5" name="Picture 6" descr="anonmous.jpg"/>
          <p:cNvPicPr/>
          <p:nvPr/>
        </p:nvPicPr>
        <p:blipFill>
          <a:blip r:embed="rId1"/>
          <a:stretch/>
        </p:blipFill>
        <p:spPr>
          <a:xfrm>
            <a:off x="3733920" y="4038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anarchy.jpg"/>
          <p:cNvPicPr/>
          <p:nvPr/>
        </p:nvPicPr>
        <p:blipFill>
          <a:blip r:embed="rId2"/>
          <a:stretch/>
        </p:blipFill>
        <p:spPr>
          <a:xfrm>
            <a:off x="6019920" y="3429000"/>
            <a:ext cx="289548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cr-, Acro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ny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b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phobia (phobia= abnormal fea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pol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igh; height; topmo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6" descr="acobat.jpg"/>
          <p:cNvPicPr/>
          <p:nvPr/>
        </p:nvPicPr>
        <p:blipFill>
          <a:blip r:embed="rId1"/>
          <a:stretch/>
        </p:blipFill>
        <p:spPr>
          <a:xfrm>
            <a:off x="5562720" y="3760920"/>
            <a:ext cx="1457280" cy="18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acrobatt.jpg"/>
          <p:cNvPicPr/>
          <p:nvPr/>
        </p:nvPicPr>
        <p:blipFill>
          <a:blip r:embed="rId2"/>
          <a:stretch/>
        </p:blipFill>
        <p:spPr>
          <a:xfrm>
            <a:off x="7162920" y="426708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crobattt.jpg"/>
          <p:cNvPicPr/>
          <p:nvPr/>
        </p:nvPicPr>
        <p:blipFill>
          <a:blip r:embed="rId3"/>
          <a:stretch/>
        </p:blipFill>
        <p:spPr>
          <a:xfrm>
            <a:off x="3505320" y="52578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acropolis.jpg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-, Alti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imeter (meter= a measur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itu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igh; heigh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6" descr="altar.jpg"/>
          <p:cNvPicPr/>
          <p:nvPr/>
        </p:nvPicPr>
        <p:blipFill>
          <a:blip r:embed="rId1"/>
          <a:stretch/>
        </p:blipFill>
        <p:spPr>
          <a:xfrm>
            <a:off x="3581280" y="4191120"/>
            <a:ext cx="1828800" cy="1895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altarr.jpg"/>
          <p:cNvPicPr/>
          <p:nvPr/>
        </p:nvPicPr>
        <p:blipFill>
          <a:blip r:embed="rId2"/>
          <a:stretch/>
        </p:blipFill>
        <p:spPr>
          <a:xfrm>
            <a:off x="7067520" y="3733920"/>
            <a:ext cx="207648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altimeter.jpg"/>
          <p:cNvPicPr/>
          <p:nvPr/>
        </p:nvPicPr>
        <p:blipFill>
          <a:blip r:embed="rId3"/>
          <a:stretch/>
        </p:blipFill>
        <p:spPr>
          <a:xfrm>
            <a:off x="304920" y="5029200"/>
            <a:ext cx="1752480" cy="1619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altitude.jpg"/>
          <p:cNvPicPr/>
          <p:nvPr/>
        </p:nvPicPr>
        <p:blipFill>
          <a:blip r:embed="rId4"/>
          <a:stretch/>
        </p:blipFill>
        <p:spPr>
          <a:xfrm>
            <a:off x="7467480" y="152280"/>
            <a:ext cx="148608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mbi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dextr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val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ve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late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o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6" descr="ambi.jpg"/>
          <p:cNvPicPr/>
          <p:nvPr/>
        </p:nvPicPr>
        <p:blipFill>
          <a:blip r:embed="rId1"/>
          <a:stretch/>
        </p:blipFill>
        <p:spPr>
          <a:xfrm>
            <a:off x="3352680" y="419112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ambii.jpg"/>
          <p:cNvPicPr/>
          <p:nvPr/>
        </p:nvPicPr>
        <p:blipFill>
          <a:blip r:embed="rId2"/>
          <a:stretch/>
        </p:blipFill>
        <p:spPr>
          <a:xfrm>
            <a:off x="5867280" y="34290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t-, Anti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ony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pat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biot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freez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aci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tox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gainst, oppos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6" descr="antacid.jpg"/>
          <p:cNvPicPr/>
          <p:nvPr/>
        </p:nvPicPr>
        <p:blipFill>
          <a:blip r:embed="rId1"/>
          <a:stretch/>
        </p:blipFill>
        <p:spPr>
          <a:xfrm>
            <a:off x="6477120" y="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antacidd.jpg"/>
          <p:cNvPicPr/>
          <p:nvPr/>
        </p:nvPicPr>
        <p:blipFill>
          <a:blip r:embed="rId2"/>
          <a:stretch/>
        </p:blipFill>
        <p:spPr>
          <a:xfrm>
            <a:off x="3505320" y="4724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antifreeze.jpg"/>
          <p:cNvPicPr/>
          <p:nvPr/>
        </p:nvPicPr>
        <p:blipFill>
          <a:blip r:embed="rId3"/>
          <a:stretch/>
        </p:blipFill>
        <p:spPr>
          <a:xfrm>
            <a:off x="6400800" y="3733920"/>
            <a:ext cx="251460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8-12-22T22:24:57Z</dcterms:modified>
  <cp:revision>26</cp:revision>
  <dc:subject/>
  <dc:title>Roots List #1</dc:title>
</cp:coreProperties>
</file>